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DFE143-E4A3-418A-987F-66103CCD1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C2D527-6003-4BB7-B036-311616F78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6A74F1-8C0C-4EA0-9085-6724252D1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48C1BC-C354-4DE5-A06E-71121C5BD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FACCF-5DAC-443B-B0B6-E409EC2D8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3F9D9-3425-4B24-8289-4C5AAABBC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1A0EB-0F17-4301-9683-103AFA337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BAE9F-96EC-4512-AD59-36473F469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E46C8-0ED5-43CF-A0B2-AD0EC4253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B496C-FB0D-4B6F-AF45-662738F23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08FE7-2AC4-44AB-B0AC-BD11AC9ED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3B99AD-632E-4440-81B1-5C3F9FD43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68F56-04EB-43A6-9651-00BCE8B35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16453-9652-42D6-A06C-BD7EF0236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4AA85-B6D5-46BD-9C23-70663F1C3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D24CE-A5EB-40B6-BAA5-3B86A6132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0E270-26CA-47CF-9718-5C327CA24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5B6144-2824-45A5-9129-D29E26332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467A3A-37CB-4688-8321-41987CC98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7FD6A6-DDD8-485E-B212-B20EE7EB4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05200D-6A07-40EA-9CF4-A57D7302B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61724D-0A88-43C7-8B29-1567862BF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DF1B1B-672E-46D5-B696-F3E424BAC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4C6611-A8C2-426A-9A9E-D1DAA9CC2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7D4A3-AA64-473A-94AD-061284A52E5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3045E-81B1-4077-8D23-34FAE0EB90C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STL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ntonio Cisternin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ame syntax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ough we have used different data types and containers the invocation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ner_produc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as been essentially the s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is this possible? On what language mechanisms do rely ST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really are iterators? Why can be interchanged with point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L seems to be really effective and generic but what happens to the code generat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++ namespace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L relies on C++ namesp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iners expose a type name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tera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the container’s name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td::vector&lt;std::string&gt;::iter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class implicitly introduces a new name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tera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ype name assumes its meaning depending on the contex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lexit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 the following co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td::list&lt;std::string&gt; 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quick_sort(l.begin(), l.end(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is reason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! Quick sort assumes random access to container’s element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can we control complexity of algorithms and guarantee that code behaves as expect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sifying iter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25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olution proposed by STL is assume that iterators implement all operations in constant time (i.e. O(1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iners may support different iterators depending on their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ward iterators: only dereference (operator*), and pre/post-increment operators (operator++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put and Output iterators: like forward iterators but with possible issues in dereferencing the iterator (due to I/O opera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directional iterators: like forward iterators with pre/post-decrement (operator--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dom access iterators: like bidirectional iterators but with integer sum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 + 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and difference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 – 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erators heavily rely on operator overloading provided by C+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++ operators and iter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ward iterators provide for one-directional traversal of a sequence, expressed with ++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or ==, !=, *, +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put iterators and output iterators are like forward iterators but do not guaratee these properties of forward iterator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at an input or output iterator can be saved and used to start advancing from the position it holds a second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at it is possible to assign to the object obtained by applying * to an input it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at it is possible to read from the object obtained by applying * to an output it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at it is possible to test  two output iterators for equality or  inequality ( ==  and != may  not be defin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directional iterators  provide for  traversal in both directions, expressed with ++ and --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me operators as forward it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or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ndom  access iterators provide for bidirectional traversal,  plus bidirectional “long jumps”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me operators as bidirectional it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or +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d -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ith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yp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ition and subtraction of an integer through operator + and operator 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arisons through operator &lt;, operator &gt;, operator &lt;=, operator &gt;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C++  pointer type, T*, obeys all the laws  of the  random access iterator catego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mits of the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erators provide a linear view of a contai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us we can define only algorithms operating on single dimension contai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t is needed to access the organization of the container (i.e. to visit a tree in a custom fashion) the only way is to define a new iter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etheless the model is expressive enough to define a large number of algorithm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der the hood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really understand the philosophy behind STL it is necessary to dig into its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particular it is useful to understand on which language mechanisms it is based up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 aliases (typedef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late functions and cla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tor overloa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mesp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erators: small stru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erators are implemented by contai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ually are implemented as struct (classes with only public memb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iterator implements a visit of the contai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iterator retains inside information about the state of the visit (i.e. in the vector the pointer to the current element and the number of remaining elemen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tate may be complex in the case of non linear structures such as gra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simple forward iterator for vecto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emplate &lt;class 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ruct v_iterato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 *v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sz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_iterator(T* v, int sz) : v(v), sz(sz) {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!= implicitly defin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ol operator==(v_iterator&amp; p) { return v == p-&gt;v;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 operator*() { return *v;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_iterator&amp; operator++() { // Pre-incr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sz) ++v, --sz; else v = NULL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*thi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_iterator operator++(int) { // Post-increment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_iterator ret = *thi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++(*this); // call pre-incr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re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re is used v_iterato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emplate &lt;class T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lass vector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va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v[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sz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ruct v_iterator { … 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ypedef v_iterator iterato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ypedef v_iterator const const_iterato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ypedef T elemen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terator begin() { return v_iterator(v, sz);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terator end() { return v_iterator(NULL, 0);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++ Standard Template Library (STL) has become part of C++ stand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ain author of STL is Alexander Stephan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chose C++ because of templates and no requirement of using OOP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ibrary is somewhat unrelated with the rest of the standard library which is O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heritance? No thank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L relies on typedefs combined with namespaces to implement generi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ogrammer always refers t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tain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:iterator to know the type of the ite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ere is no relation among iterators for different contain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ason for this i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out inheritance types are resolved at compile time and the compiler may produce better cod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an extreme position: sacrificing inheritance may lead to lower expressivity and lack of type-chec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L relies only on coding conventions: when the programmer uses a wrong iterator the compiler complains of a bug in the librar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per compiler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L relies also on the compi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++ standard has the notion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lin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hich is a form of semantic mac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ethod invocation is type-checked then it is replaced by the method bo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line methods should be available in header files and can be labell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lin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defined within class defin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lining isn’t always used: the compiler tends to inline methods with small bodies and without it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mpiler is able to determine types at compile time and usually does inlining of function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mory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L has its own memory management strate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is a type calle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lloca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hich is responsible for memoty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default STL uses its own allo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user may override the allocator specifying an additional template param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may be useful in situations where the programmer is aware of optimal allocation strategies for a specific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tential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ain problem with STL is error chec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most all facilities of the compiler fail with STL resulting in lengthy error messages that ends with error within the libr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enerative approach taken by C++ compiler also leads to possible code blo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bloat can be a problem if the working set of a process becomes too larg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D generic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4"/>
          <p:cNvSpPr/>
          <p:nvPr/>
        </p:nvSpPr>
        <p:spPr>
          <a:xfrm flipH="1">
            <a:off x="3112560" y="4005360"/>
            <a:ext cx="151308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6"/>
          <p:cNvSpPr/>
          <p:nvPr/>
        </p:nvSpPr>
        <p:spPr>
          <a:xfrm>
            <a:off x="4626000" y="4005360"/>
            <a:ext cx="2158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6406920" y="4097160"/>
            <a:ext cx="16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GORITH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8"/>
          <p:cNvSpPr/>
          <p:nvPr/>
        </p:nvSpPr>
        <p:spPr>
          <a:xfrm>
            <a:off x="4771080" y="1989000"/>
            <a:ext cx="241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9"/>
          <p:cNvSpPr/>
          <p:nvPr/>
        </p:nvSpPr>
        <p:spPr>
          <a:xfrm>
            <a:off x="3403080" y="5013360"/>
            <a:ext cx="148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ER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10"/>
          <p:cNvSpPr/>
          <p:nvPr/>
        </p:nvSpPr>
        <p:spPr>
          <a:xfrm>
            <a:off x="395280" y="2060640"/>
            <a:ext cx="4464000" cy="1873080"/>
          </a:xfrm>
          <a:prstGeom prst="wedgeRoundRectCallout">
            <a:avLst>
              <a:gd name="adj1" fmla="val 36842"/>
              <a:gd name="adj2" fmla="val 52458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hanov observed three orthogonal dimensions in algorithms: iterators allow algorithms to iterate over data structu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erators are very akin with C pointers and compatible with th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5"/>
          <p:cNvSpPr/>
          <p:nvPr/>
        </p:nvSpPr>
        <p:spPr>
          <a:xfrm flipV="1">
            <a:off x="4626000" y="1988640"/>
            <a:ext cx="0" cy="201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er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 of containers can be enumerated through it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typical pattern of STL iterators 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d::vector&lt;std::string&gt; v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…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Fill the v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 (std::vector&lt;std::string&gt;::itera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 = v.rbegin(); p != v.end(); p++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d::cout &lt;&lt; *p &lt;&lt; std::end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terat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isits all the elements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reverse order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begin!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how akin are iterators with C poin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first example: inner produ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#include &lt;iostream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#include &lt;numeric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main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A1[] = {1, 2, 3}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A2[] = {4, 1, -2}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st int N1 = sizeof(A1) / sizeof(A1[0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d::cout &lt;&lt; inner_product(A1, A1 + N1, A2, 0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&lt; std::end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4"/>
          <p:cNvSpPr/>
          <p:nvPr/>
        </p:nvSpPr>
        <p:spPr>
          <a:xfrm>
            <a:off x="4859280" y="1844640"/>
            <a:ext cx="3673440" cy="1224000"/>
          </a:xfrm>
          <a:prstGeom prst="wedgeRoundRectCallout">
            <a:avLst>
              <a:gd name="adj1" fmla="val -46800"/>
              <a:gd name="adj2" fmla="val 69972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will print 0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 =  0 + 1 * 4 + 2 * 1 + 3 * 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5"/>
          <p:cNvSpPr/>
          <p:nvPr/>
        </p:nvSpPr>
        <p:spPr>
          <a:xfrm>
            <a:off x="3635280" y="5013360"/>
            <a:ext cx="1656000" cy="503280"/>
          </a:xfrm>
          <a:prstGeom prst="wedgeRoundRectCallout">
            <a:avLst>
              <a:gd name="adj1" fmla="val 40314"/>
              <a:gd name="adj2" fmla="val -95740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 of A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6"/>
          <p:cNvSpPr/>
          <p:nvPr/>
        </p:nvSpPr>
        <p:spPr>
          <a:xfrm>
            <a:off x="5435640" y="5013360"/>
            <a:ext cx="1441440" cy="503280"/>
          </a:xfrm>
          <a:prstGeom prst="wedgeRoundRectCallout">
            <a:avLst>
              <a:gd name="adj1" fmla="val 1101"/>
              <a:gd name="adj2" fmla="val -98578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 of A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>
            <a:off x="6950160" y="5013360"/>
            <a:ext cx="1582560" cy="503280"/>
          </a:xfrm>
          <a:prstGeom prst="wedgeRoundRectCallout">
            <a:avLst>
              <a:gd name="adj1" fmla="val -39671"/>
              <a:gd name="adj2" fmla="val -73976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 of A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8"/>
          <p:cNvSpPr/>
          <p:nvPr/>
        </p:nvSpPr>
        <p:spPr>
          <a:xfrm>
            <a:off x="7236000" y="3357720"/>
            <a:ext cx="1584000" cy="936360"/>
          </a:xfrm>
          <a:prstGeom prst="wedgeRoundRectCallout">
            <a:avLst>
              <a:gd name="adj1" fmla="val -26550"/>
              <a:gd name="adj2" fmla="val 65083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l value for the accumul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th string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have strings in two vectors: labels and values to dis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we exploit inner product algorith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would be enough to use string concatenation with a tab separator instead of ‘*’ and with a new line instead of ‘+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tunately there is another version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ner_produ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at allow specifying function objects to use instead of ‘*’ and ‘+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loading of ‘+’ and ‘*’ operators make no sense: we don’t want just string cat and we may interfere with already defined overlo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umn printing with C str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include &lt;iostream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include &lt;numeric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include &lt;string.h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truct Cat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onst char* sep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t(const char* s) : sep(s) {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har* operator()(const char* t, const char* s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har* ret = new char[strlen(t) + strlen(sep) + strlen(s) + 1]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trcpy(ret, t); strcat(ret, sep); strcat(ret, s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turn re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}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nt main(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har *A1[] = { "Name", "Organization", "Country" }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har *A2[] = { "Antonio Cisternino", "Università di Pisa", "Italy" }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onst int N1 = sizeof(A1) / sizeof(A1[0]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td::cout &lt;&lt; inner_product(A1, A1 + N1, A2, "", Cat("\n"), Cat("\t"))  &lt;&lt; std::endl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4"/>
          <p:cNvSpPr/>
          <p:nvPr/>
        </p:nvSpPr>
        <p:spPr>
          <a:xfrm>
            <a:off x="2627280" y="1773360"/>
            <a:ext cx="2376360" cy="1224000"/>
          </a:xfrm>
          <a:prstGeom prst="wedgeEllipseCallout">
            <a:avLst>
              <a:gd name="adj1" fmla="val -67500"/>
              <a:gd name="adj2" fmla="val 20296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t function object: operator() will be invoked by inner_produ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5"/>
          <p:cNvSpPr/>
          <p:nvPr/>
        </p:nvSpPr>
        <p:spPr>
          <a:xfrm>
            <a:off x="5219640" y="1773360"/>
            <a:ext cx="2303640" cy="1008000"/>
          </a:xfrm>
          <a:prstGeom prst="wedgeRoundRectCallout">
            <a:avLst>
              <a:gd name="adj1" fmla="val -49240"/>
              <a:gd name="adj2" fmla="val 74722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s function object is a closure: operator() behaves differently depending on sep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6"/>
          <p:cNvSpPr/>
          <p:nvPr/>
        </p:nvSpPr>
        <p:spPr>
          <a:xfrm>
            <a:off x="6804000" y="2781360"/>
            <a:ext cx="1513080" cy="718920"/>
          </a:xfrm>
          <a:prstGeom prst="wedgeEllipseCallout">
            <a:avLst>
              <a:gd name="adj1" fmla="val -55560"/>
              <a:gd name="adj2" fmla="val 33666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memory leak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7"/>
          <p:cNvSpPr/>
          <p:nvPr/>
        </p:nvSpPr>
        <p:spPr>
          <a:xfrm>
            <a:off x="2987640" y="5300640"/>
            <a:ext cx="2521080" cy="792360"/>
          </a:xfrm>
          <a:prstGeom prst="wedgeRoundRectCallout">
            <a:avLst>
              <a:gd name="adj1" fmla="val 39166"/>
              <a:gd name="adj2" fmla="val -73245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wo more arguments: the function objects to use instead of + and 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with C++ std::st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include &lt;iostream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include &lt;numeric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include &lt;string.h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include &lt;string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include &lt;vecto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truct CatS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td::string sep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tS(std::string s) : sep(s) {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td::string operator()(std::string t, std::string s) { return t + sep + s;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nt main(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td::vector&lt;std::string&gt; s, v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.push_back(std::string("Hello")); s.push_back(std::string("Antonio"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.push_back(std::string("World")); v.push_back(std::string("Cisternino"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td::vector&lt;std::string&gt;::const_iterator A1 = s.begin(), A2 = v.beg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nt N1 = s.size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td::cout &lt;&lt; inner_product(A1, A1 + N1, A2, std::string(""), CatS(std::string("\n")), CatS(std::string("\t")))  &lt;&lt; std::endl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4"/>
          <p:cNvSpPr/>
          <p:nvPr/>
        </p:nvSpPr>
        <p:spPr>
          <a:xfrm>
            <a:off x="3419640" y="1989000"/>
            <a:ext cx="2089080" cy="1008360"/>
          </a:xfrm>
          <a:prstGeom prst="wedgeEllipseCallout">
            <a:avLst>
              <a:gd name="adj1" fmla="val -53874"/>
              <a:gd name="adj2" fmla="val 4055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ier than  before and memory sa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5"/>
          <p:cNvSpPr/>
          <p:nvPr/>
        </p:nvSpPr>
        <p:spPr>
          <a:xfrm>
            <a:off x="3924360" y="3645000"/>
            <a:ext cx="3672000" cy="431640"/>
          </a:xfrm>
          <a:prstGeom prst="wedgeEllipseCallout">
            <a:avLst>
              <a:gd name="adj1" fmla="val -51731"/>
              <a:gd name="adj2" fmla="val 53675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ctor&lt;T&gt; is an STL contai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6"/>
          <p:cNvSpPr/>
          <p:nvPr/>
        </p:nvSpPr>
        <p:spPr>
          <a:xfrm>
            <a:off x="971640" y="5734080"/>
            <a:ext cx="3168720" cy="504720"/>
          </a:xfrm>
          <a:prstGeom prst="wedgeRoundRectCallout">
            <a:avLst>
              <a:gd name="adj1" fmla="val 39430"/>
              <a:gd name="adj2" fmla="val -91509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1 and A2 now a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terator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vector&lt;string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hree ca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d::cout &lt;&lt; </a:t>
            </a: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inner_product(</a:t>
            </a:r>
            <a:r>
              <a:rPr b="1" lang="en-US" sz="2000" spc="-1" strike="noStrike">
                <a:solidFill>
                  <a:srgbClr val="336600"/>
                </a:solidFill>
                <a:latin typeface="Courier New"/>
              </a:rPr>
              <a:t>A1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336600"/>
                </a:solidFill>
                <a:latin typeface="Courier New"/>
              </a:rPr>
              <a:t>A1 + N1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336600"/>
                </a:solidFill>
                <a:latin typeface="Courier New"/>
              </a:rPr>
              <a:t>A2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0</a:t>
            </a: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&lt; std::end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d::cout &lt;&l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inner_product(</a:t>
            </a:r>
            <a:r>
              <a:rPr b="1" lang="en-US" sz="2000" spc="-1" strike="noStrike">
                <a:solidFill>
                  <a:srgbClr val="336600"/>
                </a:solidFill>
                <a:latin typeface="Courier New"/>
              </a:rPr>
              <a:t>A1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336600"/>
                </a:solidFill>
                <a:latin typeface="Courier New"/>
              </a:rPr>
              <a:t>A1 + N1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336600"/>
                </a:solidFill>
                <a:latin typeface="Courier New"/>
              </a:rPr>
              <a:t>A2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"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2000" spc="-1" strike="noStrike">
                <a:solidFill>
                  <a:srgbClr val="9900cc"/>
                </a:solidFill>
                <a:latin typeface="Courier New"/>
              </a:rPr>
              <a:t>Cat("\n"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9900cc"/>
                </a:solidFill>
                <a:latin typeface="Courier New"/>
              </a:rPr>
              <a:t>Cat("\t")</a:t>
            </a: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&lt;&lt; std::end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d::cout &lt;&l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inner_product(</a:t>
            </a:r>
            <a:r>
              <a:rPr b="1" lang="en-US" sz="2000" spc="-1" strike="noStrike">
                <a:solidFill>
                  <a:srgbClr val="336600"/>
                </a:solidFill>
                <a:latin typeface="Courier New"/>
              </a:rPr>
              <a:t>A1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336600"/>
                </a:solidFill>
                <a:latin typeface="Courier New"/>
              </a:rPr>
              <a:t>A1 + N1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336600"/>
                </a:solidFill>
                <a:latin typeface="Courier New"/>
              </a:rPr>
              <a:t>A2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td::string(""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9900cc"/>
                </a:solidFill>
                <a:latin typeface="Courier New"/>
              </a:rPr>
              <a:t>CatS(std::string("\n")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000" spc="-1" strike="noStrike">
                <a:solidFill>
                  <a:srgbClr val="9900cc"/>
                </a:solidFill>
                <a:latin typeface="Courier New"/>
              </a:rPr>
              <a:t>CatS(std::string("\t"))</a:t>
            </a: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&lt;&lt; std::end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iuseppe Attardi</cp:lastModifiedBy>
  <dcterms:modified xsi:type="dcterms:W3CDTF">2011-11-15T11:48:45Z</dcterms:modified>
  <cp:revision>50</cp:revision>
  <dc:subject/>
  <dc:title>PowerPoint Presentation</dc:title>
</cp:coreProperties>
</file>